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274-4EF7-46E2-8CCE-3AA3AF0C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022-D5FC-499E-AED4-60531C2F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6F69C4-A4A7-448A-A183-33A49083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1573B4-E94A-441A-AD96-A08174B5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A2D21-2427-420E-B977-EFAAEDE5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40842A-49A0-4A4D-A5A6-B622363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348FE-2C0B-44E1-82AA-C4BA2CFC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A05FD1-025B-4CFB-9D3F-26AB4B1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92307F-1CFC-4010-9EF1-337D5DEB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9521B-795C-4045-94A3-43AF6815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7AB950-A3CD-461D-94EF-ADC5654D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1E4F2-743E-463A-90E9-CA1F42BA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9B0-3C1D-445E-8A46-B05ADC23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D0596-6E2F-4779-B153-20C0F0D2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3F190-742C-42E1-83ED-652DB9A7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6332F-EB39-481C-9F07-E42D2385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69979-98B3-457C-A7AC-8E5BBE27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C1C32-9BC1-4100-A1D1-898501B4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67A6F-FF43-47FB-B23C-C0C4EDFC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5B616-D21A-42D0-A3A2-351F51D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CC7FB-2644-4157-88AB-8259BE66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E36CC-C6B2-447E-BEE1-E4446331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4406B-0670-4DA1-8B5A-5B1606E5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A59-8761-43DB-9825-C65903D9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89123-B3FB-43C8-B85C-2DD06982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828F-4031-46D8-A7C7-1DF17AC9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C7C5-A523-4034-AA44-3B3137D1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9150-E9EE-49B1-B81A-16E0D618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2F54-9561-45A2-B6B9-8B2C08C8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1B91-3178-4DF7-8FC7-71830A59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B959-8EF1-4B38-93E5-DD140213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8C92-1328-42F9-80C2-EC1E0B86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379-B690-45BC-86E6-EDA35634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F839-FEB9-4C57-8CBF-E297E371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D934-C6A7-4270-9DF6-379BC05F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D34-1363-4672-9884-07676DA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01CD-9144-4DCB-87AF-BC9B0C06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D6E1-D743-48A5-9983-E752B924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9AB6-0797-4EFC-9BB0-53501ABC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422D-91C8-44F0-90C2-3A007D01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95E9-49FE-46B1-B954-6C393BE1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8DCD-EC35-42A4-9414-5AEFEA42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7DDA-85AD-4B02-BC99-70A46228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F1B-D4A0-4C0C-84AB-0128F17D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DA015-5F0A-4DD4-8CE5-27F42F8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2151-D106-4919-8969-364AFEFE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6070-CF84-47ED-B36C-F3E3E81D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2F6E-07E7-4E30-8A9C-45EC25E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1F58-05C3-43CF-8144-FB152542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4455-5598-4DCF-8B5F-003526C1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6D92E-9BC7-4838-A94A-5EBF784E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8F689-1955-48D2-9E56-2C1FF2EB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E42BA-A4DB-4DD5-8691-7D3364C5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2C3A0-E35E-4540-B71A-75579AD7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D71-9FE8-4D4E-938B-9A256E57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0B122-04F3-4E46-92B8-7FBA727E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C1ED4-6216-4242-B796-79DB54D0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4D6E5-2745-46CE-AC59-B148D39F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67528-3102-4720-9B43-4B0B113F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5A4D1-2238-49C7-9476-438EA89E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71ABD-37CA-43EA-99A4-D53508DF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81741-EDEE-4A39-B0CC-00BC54F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540B99-1706-478A-9CB1-F9DA8B1E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A81DA-B75E-47E7-BB80-91113307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AD24-BC20-45A7-A4F2-4CCFA71F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934-449B-47C2-BC7B-1B81E1EE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A2F0E-5C21-47CD-B2A2-FA905F87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073D-0F4A-4C68-A6EC-65494404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F8FB4-4DA5-40C0-AD2C-94F9AF67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17D9-5E4B-4980-992B-A13B245E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96C87-F7A8-4003-845F-2C80FA13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5E2C-3750-4C09-9C5B-429A4947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451BD-8273-4A75-B890-438E46AF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3CFA1-6311-46C4-A235-C6401F9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A07CD-05D6-4B21-BAA3-77656F3E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05A1-9909-4463-B083-BC1BD6AC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E2D-F1FD-4152-9924-8F29530E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6F81-5FD7-4E45-AA14-CC05B410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07399-923B-4B01-A87C-0A11C523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011D3-1051-41A8-B6B7-DAD741C7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3A0BC-9EB9-40E7-84E7-90039597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F16C1-6E52-4104-A721-57880E8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B3BFF-875D-4E5D-A31D-8EAC7CA0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A402F-049C-4AD7-A649-4D82BAC6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206E8-09B3-4432-87F2-BD17F12D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2CD95-7299-4A93-9D60-B5B10C6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04A2F-CB57-46FB-BB2E-D37CF653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00D-5F31-49C1-8AF0-F79FF33D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833A3-49A8-43C4-97B9-8BE9FF78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E1497-40EA-4612-AF58-D9EF1725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9E8BD-78C7-4449-A349-79A43BAC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49834-C7B4-41DB-B2F2-A2C394EE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7A38B-0741-436C-B6E3-A446AF5C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CA828-E006-40A9-A91E-B94CA568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B84B-4388-46D7-A88C-58FBFB26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2C9A3-31E5-461B-A989-7E7133DF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3172A-D875-4E54-8825-D7F7A75E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CAC7D-5EFF-4037-9589-66829719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295-D5FC-4D0B-A665-028A270F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6ECC-9F43-4185-89C3-1A5CFB1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EE09D-C34C-421E-A07F-197CE131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16E19-41C1-4549-81D2-D5467D8F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0461D-9518-4327-9322-AB6EA50C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97188-8D09-4D81-A677-447DFDE9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BD82F-A852-4F1C-AE5D-51F1C33B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D6F23-484D-49BF-93CE-A39938DE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D22A5-6198-4CDD-9006-66469C14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8ADA-3964-4532-A089-578A6542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15099-303E-4606-8A5B-E74DA0B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128-2B51-47E8-B54E-D084E87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1395-DCA1-46A5-9028-A24CC71D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0551F-9BCC-4DC6-A67E-6A2C250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B5863-9975-4367-AF84-E6779C4F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68D43-DA9C-4E7C-85E5-E4F8ACB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1D16E-6E1B-4330-9374-96A1494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834BE-61A9-47AA-BB31-E4C35912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4FF12-99F7-483A-8DDD-D78B45CF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47366E-8002-4F23-A029-72A40B60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1D0801-F00C-4DB6-8E54-9C2ECBB6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5DAA7E-E76D-4484-9121-01709909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8061-16FB-4C96-93F4-35B3FFF352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4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1003-645C-4254-B63A-DEAD6BDEDF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8BDF-338F-4BB6-8DF9-164C510165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C8A6-9AA2-4329-8A15-D1D79A0AD1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333D-60BC-449B-AB1E-707E523C23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1554-18A1-452B-8185-275ECA812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BA30-B60F-43A7-A17C-B5A6E4F59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5E89-146A-43CF-B896-5395AE18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5B05-1B62-4619-8BD7-E9E044CF3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ACA9-68FA-43EB-85A7-02037CAFB2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Onomatopoei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248160" cy="311292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7435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words that supposedly mimic their meaning in their s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6961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em excerp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eard a fly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uz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I di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blue, uncertain stumbling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 buz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3429000" cy="28652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6050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helps explains something about sound or noise. It explains how a fly buzzes around the room when the narrators person dies. The buzzing is an example of onomatopoeia because how onomatopoeia uses sound to help explain the sound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a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lan Agui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en Man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hael Apari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4745" fill="hold"/>
                                        <p:tgtEl>
                                          <p:spTgt spid="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6:44:07Z</dcterms:created>
  <dc:creator>Troy High School</dc:creator>
  <dc:description/>
  <dc:language>en-US</dc:language>
  <cp:lastModifiedBy>Troy High School</cp:lastModifiedBy>
  <dcterms:modified xsi:type="dcterms:W3CDTF">2009-02-11T17:04:14Z</dcterms:modified>
  <cp:revision>3</cp:revision>
  <dc:subject/>
  <dc:title>Onomatopoeia</dc:title>
</cp:coreProperties>
</file>